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4400" y="726840"/>
            <a:ext cx="2511720" cy="362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lstStyle>
            <a:lvl1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6AB4D0F2-05C0-40D3-8FD3-438243D7D06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079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b">
            <a:no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550C8DE3-28DD-4AB4-97BD-28C16EC551D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174760" y="727200"/>
            <a:ext cx="2511720" cy="36255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2A9-E6B1-4774-BD7C-3100B7FB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6CC-3C91-4A64-B3AA-FB6022F0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9C1-D2A3-4BB0-B969-2A80F1B7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024F-4B0E-4838-BFD0-DEEDEB61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364F-73FB-437C-93E1-1CFBADF4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3A0-D4C8-4A31-9836-B310B601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7D2-8A27-4351-9789-2F68B7C5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0E3-CBFB-4915-9DF2-77548AC6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E9BC-3362-42EB-B1C0-E882A4AD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E28-ACE2-49E1-8EEC-13C96EC7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2C2A-5719-439C-92AE-AAC5DBAF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8C04-B9D0-4A12-8306-B5FFE1FD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GB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A1E2FBB5-0387-4B1E-9ABD-4617D979556C}" type="slidenum"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24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97"/>
          <p:cNvSpPr/>
          <p:nvPr/>
        </p:nvSpPr>
        <p:spPr>
          <a:xfrm>
            <a:off x="533520" y="1676520"/>
            <a:ext cx="5919840" cy="1339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Modernizare Strada Cserey Janosne, situata intre strada Ghioceilor si Panorama Lunii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23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8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255"/>
          <p:cNvSpPr txBox="1"/>
          <p:nvPr/>
        </p:nvSpPr>
        <p:spPr>
          <a:xfrm>
            <a:off x="1752480" y="79246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TIZA TEHN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lucian</cp:lastModifiedBy>
  <cp:lastPrinted>2009-02-10T18:44:43Z</cp:lastPrinted>
  <dcterms:modified xsi:type="dcterms:W3CDTF">2014-06-08T13:20:19Z</dcterms:modified>
  <cp:revision>179</cp:revision>
  <dc:subject/>
  <dc:title>PowerPoint Presentation</dc:title>
</cp:coreProperties>
</file>